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6858000"/>
  <p:notesSz cx="66595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660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60560" cy="531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6"/>
          </p:nvPr>
        </p:nvSpPr>
        <p:spPr>
          <a:xfrm>
            <a:off x="3763800" y="-360"/>
            <a:ext cx="2859120" cy="531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661680" y="758880"/>
            <a:ext cx="537516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7"/>
          </p:nvPr>
        </p:nvSpPr>
        <p:spPr>
          <a:xfrm>
            <a:off x="0" y="9339120"/>
            <a:ext cx="2860560" cy="532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8"/>
          </p:nvPr>
        </p:nvSpPr>
        <p:spPr>
          <a:xfrm>
            <a:off x="3763800" y="9339120"/>
            <a:ext cx="2859120" cy="532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4AC4390-0505-43BD-A897-82BA9A9EF8B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hciałbym zaprezentować Państw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jważniejsze tezy mojej pracy doktorski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emat pracy brzmi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lgorytmy neuronowe i statystycz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aca została wykonana w Katedrze Metod Komputerowych U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d kierunkiem profesora Włodzisława Duch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organizująca się sieć Kohonena jest siecią dwuwarstwow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ej warstwa wyjściow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siatką neuronów oddziałujących lateraln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wyrażeniu ... mi jest wektorem wag neuronu "i"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 hci jest tzw. funkcją sąsiedztw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której relacje bliskości danych są zachowane na map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najważniejszych zalet tego modelu należy to, ż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konuje jednocześnie redukcji wymiarowośc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az klasteryzacji danych wielowymiarowy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aje możliwość zastosowania do dużych baz da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ub danych w czasie ich napływ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graniczenia modelu SOM,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niekształcenie związane z niedopasowaniem kształtu ma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ogólnego kształtu danych, efekt „brzegowy”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yskretyzacja przestrzeni wyjściowej (siatka neuron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fekt lokalnego powiększani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teryzacja i klasyfikacja nie optymal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ieczność wyboru wielu parametrów uczenia sie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jdźmy teraz do skalowania wielowymiarowe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łówną ideą tej metody jest zminimalizowanie funkcji błę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zw. stresu, gdzie deltaij jest miarą odmienności obiektów i oraz  j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j jest odległością w przestrzeni niskowymiarow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literaturze przedstawiono różne metody optymali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tosowane w tym cel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lgorytm MDS w niniejszej pracy ulepszono w sposób następują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stalono pewną strategię wyboru konfiguracji początkowej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 minimalizacji stresu został ulepszon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optymalizacji skoku wzdłuż gradient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tworzono możliwość dorzutowania nowych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ymalny skok dla metody największego spadk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iera się na aproksymacji funkcji S formą kwadratow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rzymujemy następujące wyrażenie, w którym można dokona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elu analitycznych uproszcze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ównano metodę największego spadku z optymalnym skokiem (OS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metodą sprzężonych gradientów (CO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az z tzw. rzutowaniem Sammon’a (SA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ierwszym wykresie widzimy szybs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bardziej regularne zbieganie się minimalizacji metodą O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rugi wykres przedstawia końcowe wartości stresu dla stu różnych pró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dzimy niższe wartości średnią oraz minimalną dla O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asumując: zalety ulepszonej metody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względnianie krzywizny funkcji S() w punkcie Y(k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y jednocześnie mniejszej kosztowno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iż prawdziwa metoda drugiego rzędu (n.p. metoda Newton’a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w sumie szybsza niż metoda gradientów sprzężony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 minimalizacji przebiega w sposób bardziej kontrolowany ni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ą rzutowania Sammon’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łówną wadą jest jej liniowa zbieżnoś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łączona przez mnie generalizacja polega na minimalizacji nowego stres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ym występują odległości miedzy nowym punk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lub nowymi punkta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 punktami wcześniej rzutowanymi tak zwanej ba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stać stresu jest przedstawiona poniższym wzo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odstawie przeprowadzonych badań można wnioskować, ż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ultiStart z minimalizacją gradientową jest zadowalającym rozwiązani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małych zbiorów (do 100 punkt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siada względną szybkość rzutowani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liwość kontroli obszarów danych, które należy lepiej odwzorowywać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liwość wizualizacji dużych zbiorów danych w celu ich eksplor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.p. bazy tekstów) lub danych napływających w cza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.p. monitoring procesów przemysłowyc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dy zaproponowanego modelu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łożoność obliczeniowa rzędu 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pl-PL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- liczba punkt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iczne lokalne minima (czułość na warunki początkow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implementowany interakcyjny program iMDS został zastosow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wizualizacji danych psychometrycz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yły to dane trzynasto-wymiarowe opisujące przypadki chorób psychicz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dzimy, że MDS pozwala na lepsze odseparowanie różnych k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a przykład klasy ‘norma’ - granatowa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sychopatia’ - niebieska, turkuso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ganika’ - purpurow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lejnym zastosowaniem met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zoomowanie w sąsiedztw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branego pacjenta bazy psychometryczn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chowano i rzutow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 najbliższych sąsiadów w przestrzeni c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k równego 500, 200, 50, 20, 10 i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ńcowe wartości stresu są wskaźnikiem jakości odwzorow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7520" y="4708080"/>
            <a:ext cx="511812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adnicze cele mojej pracy zawierają się w następujących punkta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dstawienie przeglądu istniejących metod wizualizacyj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ównanie dwóch wybranych metod: skalowania wielowymiarowego (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samoorganizujących się map Kohonena (S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punktu widzenia zachowania topografii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akcyjna eksploracja danych medycznych oraz wizualizac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ranic decyzji klasyfikatorów jako narzędzie wspomagające diagno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0720" y="4708080"/>
            <a:ext cx="587232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statnim zastosowaniem j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zualizacja granic decyzji sieci neuronowej Inc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enerowano przypadkowe punkty według rozkładu Gausowskie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sąsiedztwie interesującego nas punktu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klasyfikowano i dorzutowano do obrazu najbliższych sąsiadów z ba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na skorelować pozycję oraz ostrość granicy decyz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prawdopodobieństwami podanymi przez klasyfikator Inc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rzutowane punkty są w obszarze większego zagęszcze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m gdzie klasyfikator podał duże prawdopodobieństw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y są dobrze odseparowa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iedy prawdopodobieństwa są mniejsz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y są przemiesz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01560" y="4708080"/>
            <a:ext cx="557064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kluzje moich badań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aktyczne porównanie algorytmów SOM i MDS pozwala wnioskować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ż MDS jest lepszym narzędziem do odwzorowywania struktur da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ęc lepiej się nadaje do ich interakcyjnej eksplor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kalowanie wielowymiarowe zostało ulepszone i do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interakcyjnej eksploracji wielowymiarowych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myślnie zastosowano metodę MDS do wizualizacji wielowymiar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anych medycznych oraz do wizualizacji granic decyzji klasyfikatora.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dalszej perspektywie można zaproponować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adania nad minimalizacją stresu metodą gradientową z MultiStart’e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o jest uzasadnione w przypadku małych zbiorów da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większych zbiorów, należy poszukiwać tańszych metod global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gram iMDS przedstawiający 2-wymiarową konfiguracj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przygotowaniem do wizualizacji w 3 wymiar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na również myśleć o interaktywnej wizuali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względniającej informację klasow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o wizualizacji lokalnych poziomów zniekształceń relacji sąsiedztw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p. za pomocą Minimalnego Drzewa Rozpinające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uję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łówne tezy mojej rozprawy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acja polepszonego algorytmu M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zwala na włączenie go w narzędzie interakcyjnej eksploracji da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az wizualizacji granic decyzji wybranego klasyfikato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ody ekstrakcji cech mogą z sukcesem być za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alowanie wielowymiarowe jest lepiej przy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odwzorowywania topografii danych niż mapy samoorganizujące si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alizacja przedstawionych celów prac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biegała według następującego plan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unkt pierwszy: Cele wizualizacji danych wielowymiarow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gląd metod pozwalających na wizualizacj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organizujące się mapy Kohonena (S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y skalowania wielowymiarowego (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tosowania zoptymalizowanej metody M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kluzje i perspekty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01200" y="4708080"/>
            <a:ext cx="519444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wstępie rozprawy omówiłem cele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wizualizacji, możliwe jest poznanie da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przez określenie ich globalnej struktur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krywanie obecności klasterów i danych odstając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zualizacja dotyczy danych numerycz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wystarczy możliwość określenia podobieństw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a wizualizacja polega na przedstawieniu wykresów punkt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ych istotne są relacje sąsiedztw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dalszej części pracy przedstawio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y wizualizacji danych wielowymiar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dzielone na liniowe oraz nieliniow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elem tego przeglądu było umożliwienie wyboru met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jbardziej odpowiedniej do wizualizacj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ezentowanych w pracy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naliza Czynników Głównych jest metodą statystyczną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tóra istnieje również w postaci sieci neuronowej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partej na regule Hebb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niki zastosowania każdej z metod różnią się rodzaj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chowanej inform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alowanie wielowymiarowe pozwala zachować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uczytelnić odległości lub dane odmiennośc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wie kolejne metody zaprezentowane w tabel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ą wersjami MDS w postaci sieci neuronow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y samoorganizujące się są skonstruowane w taki sposób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y zachować relacje sąsiedztw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e względu na zachowywane informacje do dalszych badań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ytypowano właśnie metody MDS i S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dano również metodę liniową Analizę Składników głów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nieważ została ona wybrana jako inicjalizacja dla metod nielini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ka rozkładu na wartości osobliwe okazała się leps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została wykorzystana w dalszej części p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zutowanie liniowe nie pozwala na optymalną wizualizacj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biorów o nieliniowej strukturz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rzykład sympleks w 5-ciu wymiarach zobrazowany tą metod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a 3 wierzchołki zgrupowa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tomiast przy zastosowaniu metody nieliniowej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szystkie sześć wierzchołków jest odseparow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C619E-29B8-4221-A666-9F8209FC6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DCC64-F857-40AD-B53E-33B05B5B7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73A9D-4A96-4787-9F41-5ED08FCEC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108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0924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292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108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0924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7557E-BBD8-4EF8-8060-6E6F94B3B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85BEC-E097-4DBB-B4C2-898F9D02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5D36E-0F2F-4834-ACC6-7CBAE8DF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2A9DC-0D00-4425-9A63-8D5C4716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25663-8014-4BF8-8C47-A3957FF0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5F2E8-F823-422A-BF3A-B24BEBD4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12560" y="228240"/>
            <a:ext cx="9080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F8BD3-E0AC-46DE-A7B3-B2A7635E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F6C5C-2A4D-413E-ACBC-88AC7E75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34D6A-DD78-4550-AB11-A6E448B92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003D3-6704-438D-8E71-96D944B0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00DC3-742D-4586-80D8-86CBBDED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C303E-EACD-4D62-8FDB-7FAF69D2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2C878-999F-4529-99CE-A254673C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1108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0924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1292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1108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60924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78A2D-670F-4571-8DD5-5BC73C91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01B42-5C63-498B-B98F-EFC0E33F5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36C0B-0B2C-4B9C-9140-3FC2E3418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8363E-DE40-4912-811A-682BF9CDE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28240"/>
            <a:ext cx="9080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DEE25-86CE-49A2-9C13-872728209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C53B9-ED58-474D-B1A1-E5FB170C8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6482D-9AE1-4CA2-802F-22B3E8815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66AEF-7F8E-4CCE-8FEF-CFDE057A0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32040" y="0"/>
            <a:ext cx="62740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57564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4880" y="1219320"/>
            <a:ext cx="1933560" cy="2324160"/>
            <a:chOff x="164880" y="1219320"/>
            <a:chExt cx="1933560" cy="2324160"/>
          </a:xfrm>
        </p:grpSpPr>
        <p:sp>
          <p:nvSpPr>
            <p:cNvPr id="3" name=""/>
            <p:cNvSpPr/>
            <p:nvPr/>
          </p:nvSpPr>
          <p:spPr>
            <a:xfrm flipH="1">
              <a:off x="164880" y="1316880"/>
              <a:ext cx="193356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75480" y="1222560"/>
              <a:ext cx="0" cy="23209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71080" y="1219320"/>
              <a:ext cx="2088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-228600">
              <a:spcBef>
                <a:spcPts val="1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500120" indent="-228600">
              <a:spcBef>
                <a:spcPts val="1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1919160" indent="-228600">
              <a:spcBef>
                <a:spcPts val="14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5" marL="1919160" indent="-22860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6" marL="1919160" indent="-22860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990360" y="6400440"/>
            <a:ext cx="7924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915400" y="6400440"/>
            <a:ext cx="66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E3DC-CFDA-4FF8-8FE6-D3EAA7C0143F}" type="slidenum">
              <a:rPr b="1" lang="en-US" sz="16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2040" y="0"/>
            <a:ext cx="6274080" cy="1522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7564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0120" y="887400"/>
            <a:ext cx="0" cy="28465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680" y="3050640"/>
            <a:ext cx="5523120" cy="18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660240" y="1219320"/>
            <a:ext cx="6554880" cy="144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rot="16200000">
            <a:off x="752760" y="1056600"/>
            <a:ext cx="247320" cy="26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59" y="3"/>
                </a:moveTo>
                <a:arcTo wR="10800" hR="10800" stAng="-5476576" swAng="16204040"/>
                <a:lnTo>
                  <a:pt x="10800" y="10800"/>
                </a:lnTo>
                <a:close/>
              </a:path>
              <a:path fill="none" w="21600" h="21600">
                <a:moveTo>
                  <a:pt x="10559" y="3"/>
                </a:moveTo>
                <a:arcTo wR="10800" hR="10800" stAng="-5476576" swAng="16204040"/>
              </a:path>
            </a:pathLst>
          </a:cu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971800" y="3809880"/>
            <a:ext cx="6548040" cy="2876400"/>
            <a:chOff x="2971800" y="3809880"/>
            <a:chExt cx="6548040" cy="2876400"/>
          </a:xfrm>
        </p:grpSpPr>
        <p:sp>
          <p:nvSpPr>
            <p:cNvPr id="53" name=""/>
            <p:cNvSpPr/>
            <p:nvPr/>
          </p:nvSpPr>
          <p:spPr>
            <a:xfrm>
              <a:off x="2971800" y="6175080"/>
              <a:ext cx="654804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320400" y="3809880"/>
              <a:ext cx="0" cy="287640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5400000">
              <a:off x="9200880" y="6013440"/>
              <a:ext cx="24732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2800" y="1371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D4D6-4248-4D43-8CB3-4F7800320C0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4136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52480" algn="ctr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27152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69056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6905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6905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2800" y="1371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lgorytmy neuronowe i statystyczne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w wizualizacji danych wielowymiarowych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07560" y="3733920"/>
            <a:ext cx="8255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ahoma"/>
              </a:rPr>
              <a:t>Antoine Nau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1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motor: prof. W. Du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tedra Metod Komputerowy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iwersytet Mikołaja Kopernika w Toruni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6" name="UMK" descr=""/>
          <p:cNvPicPr/>
          <p:nvPr/>
        </p:nvPicPr>
        <p:blipFill>
          <a:blip r:embed="rId1"/>
          <a:stretch/>
        </p:blipFill>
        <p:spPr>
          <a:xfrm>
            <a:off x="1155600" y="3733920"/>
            <a:ext cx="14032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3.1. Samoorganizująca się sieć Kohone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eć dwuwarstwowa, uczenie konkurencyjne (zwycięzca bierze większość)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77800" y="1752480"/>
          <a:ext cx="404496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752480"/>
                    <a:ext cx="40449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602320" y="1752480"/>
          <a:ext cx="373860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2320" y="1752480"/>
                    <a:ext cx="37386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kohopol" descr=""/>
          <p:cNvPicPr/>
          <p:nvPr/>
        </p:nvPicPr>
        <p:blipFill>
          <a:blip r:embed="rId5"/>
          <a:stretch/>
        </p:blipFill>
        <p:spPr>
          <a:xfrm>
            <a:off x="825480" y="2227320"/>
            <a:ext cx="7677000" cy="463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2ED68-8954-4615-8523-F6D8E5844E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3.2. Samoorganizująca się sieć Kohone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25056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alety modelu SOM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konuje jednocześnie redukcji wymiarowości oraz klasteryzacji danych wielowymiarowych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ożliwość zastosowania do dużych baz danych lub danych w czasie ich napływan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-25056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graniczenia modelu SOM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niekształcenie związane z niedopasowaniem kształtu mapy do ogólnego kształtu danych, efekt „brzegowy”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yskretyzacja przestrzeni wyjściowej (siatka neuron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fekt lokalnego powiększani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lasteryzacja i klasyfikacja nie optymalne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onieczność wyboru wielu parametrów uczenia siec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697DE-E457-4FFE-A358-CCDD5D273F1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1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6240" indent="-288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Ścisła definicja skalowania wielowymiaroweg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la zbioru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obiektów, mamy pomiary {</a:t>
            </a:r>
            <a:r>
              <a:rPr b="0" lang="pl-PL" sz="2400" spc="-1" strike="noStrike">
                <a:solidFill>
                  <a:srgbClr val="40458c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odmienności (ang. dissimilarity) dla wszystkich par obiektów (i,j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zukamy niskowymiarowej przestrzeni M, w której jeden punkt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reprezentuje jeden obiekt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w taki sposób, by odległości {d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między punktami {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były jak najlepiej dopasowane do odmienności {</a:t>
            </a:r>
            <a:r>
              <a:rPr b="0" lang="pl-PL" sz="2400" spc="-1" strike="noStrike">
                <a:solidFill>
                  <a:srgbClr val="40458c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6240" indent="-288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Skalowanie metodą najmniejszych kwadratów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8330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inimalizacja funkcji błędu (badness-of-fit), tzw. stresu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330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etody optymalizacji: lokalne (coordinate or gradient descent), globalne (majorizing function, wygładzanie stresu) lub inferencyjn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981080" y="4648320"/>
          <a:ext cx="5553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648320"/>
                    <a:ext cx="55533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185BA-319D-4F01-B7BE-1FE83DD5174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2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Ulepszenia wniesione do algorytmu MDS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ybór początkowej konfiguracji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CA + MultiStar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rzyspieszenie oraz ulepszenie procesu zbiegania się minimalizacji stres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optymalizacja skoku wzdłuż gradientu w metodz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największego spadku uwzględniając drugie pochod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Generalizacj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dorzutowania nowych danych przez MD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o istniejącego rzutowan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A151E-39BC-4530-A6F3-AEAFDE206B0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3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620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ptymalny skok dla metody największego spadk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90800" y="1941480"/>
          <a:ext cx="404172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0" y="1941480"/>
                    <a:ext cx="404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07880" y="2895480"/>
          <a:ext cx="949824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880" y="2895480"/>
                    <a:ext cx="94982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198440" y="3706920"/>
          <a:ext cx="685332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98440" y="3706920"/>
                    <a:ext cx="68533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800440" y="4648320"/>
          <a:ext cx="3801960" cy="138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0440" y="4648320"/>
                    <a:ext cx="380196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022760" y="2514600"/>
            <a:ext cx="74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Aproksymacja funkcji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S(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·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formą kwadratową (szereg Taylora)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AF2E4-3AE1-4F2F-9089-287717A1BA9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4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620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równanie procesu minimalizacji z innymi metodami 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3" name="conv" descr=""/>
          <p:cNvPicPr/>
          <p:nvPr/>
        </p:nvPicPr>
        <p:blipFill>
          <a:blip r:embed="rId1"/>
          <a:stretch/>
        </p:blipFill>
        <p:spPr>
          <a:xfrm>
            <a:off x="247680" y="1828800"/>
            <a:ext cx="932796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8F4DB-ADB0-453A-A6D1-84F4ECF54C8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5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092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Zalety metody największego spadku z optymalnym skokiem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uwzględnianie krzywizny funkcji 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S()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w punkcie 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i="1" lang="pl-PL" sz="1800" spc="-1" strike="noStrike" baseline="30000">
                <a:solidFill>
                  <a:srgbClr val="40458c"/>
                </a:solidFill>
                <a:latin typeface="Tahoma"/>
              </a:rPr>
              <a:t>(k)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przy jednocześnie mniejszej kosztowności niż prawdziwa metoda drugiego rzędu          (n.p. metoda Newton’a)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jest w sumie szybsza niż metoda gradientów sprzężonych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proces minimalizacji przebiega w sposób bardziej kontrolowany niż metodą rzutowania Sammon’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0520" indent="-25092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ady metody największego spadk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liniowa zbieżność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0520" indent="-25092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Dołączenie generalizacji do MDSu: „względny” M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b 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– liczba punktów wcześniej rzutowanych     (b – baza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lnSpc>
                <a:spcPct val="7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n 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– liczba nowych punktów do dorzutowania  (n – nowe dane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95280" y="5486400"/>
          <a:ext cx="918036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86400"/>
                    <a:ext cx="91803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FBF80-EC2F-4D91-8173-2DC8B8C607A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6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25056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Zalety zaproponowanego modelu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ultiStart z minimalizacją gradientową jest zadowalającym rozwiązaniem dla małych zbiorów (do 100 punkt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zględna szybkość rzutowani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kontroli obszarów danych, które należy lepiej odwzorowywać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wizualizacji dużych zbiorów danych w celu ich eksploracji (n.p. bazy tekstów) lub danych napływających w czasie (n.p. monitoring procesów przemysłowych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-25056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Wady zaproponowanego modelu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złożoność obliczeniowa rzędu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i="1" lang="pl-PL" sz="20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- liczba punkt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liczne lokalne minima (czułość na warunki początkowe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5D935-115F-4B08-A40D-38319796DDF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1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4280" y="1519200"/>
            <a:ext cx="88200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641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Program </a:t>
            </a:r>
            <a:r>
              <a:rPr b="1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iMDS</a:t>
            </a:r>
            <a:r>
              <a:rPr b="0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 zaimplementowany w śr Windows został zastosowany do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lnSpc>
                <a:spcPct val="9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izualizacji danych psychometrycznych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(test MMPI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550 pytań </a:t>
            </a:r>
            <a:r>
              <a:rPr b="0" lang="pl-PL" sz="1600" spc="-1" strike="noStrike">
                <a:solidFill>
                  <a:srgbClr val="40458c"/>
                </a:solidFill>
                <a:latin typeface="Symbol"/>
                <a:ea typeface="Symbol"/>
              </a:rPr>
              <a:t></a:t>
            </a: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 13 skal (20-120), 20 klas nozologicznych (kobiety/mężczyźni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wizualizacja przez PCA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wizualizacja przez MD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1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= 0.065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1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= 0.021 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(PCA init., 142 iteracji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2" name="allwoPCA" descr=""/>
          <p:cNvPicPr/>
          <p:nvPr/>
        </p:nvPicPr>
        <p:blipFill>
          <a:blip r:embed="rId1"/>
          <a:stretch/>
        </p:blipFill>
        <p:spPr>
          <a:xfrm>
            <a:off x="660240" y="2590920"/>
            <a:ext cx="4292640" cy="3170160"/>
          </a:xfrm>
          <a:prstGeom prst="rect">
            <a:avLst/>
          </a:prstGeom>
          <a:ln w="0">
            <a:noFill/>
          </a:ln>
        </p:spPr>
      </p:pic>
      <p:pic>
        <p:nvPicPr>
          <p:cNvPr id="163" name="allwoNLM" descr=""/>
          <p:cNvPicPr/>
          <p:nvPr/>
        </p:nvPicPr>
        <p:blipFill>
          <a:blip r:embed="rId2"/>
          <a:stretch/>
        </p:blipFill>
        <p:spPr>
          <a:xfrm>
            <a:off x="5118120" y="2590920"/>
            <a:ext cx="4292640" cy="31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A25D7-0EEF-454B-8EC7-BEDCA9051B5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2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Zoomowanie w przestrzeni wybranej interakcyjni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.p. zoomowanie w sąsiedztwie punktu nr 426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6" name="p426" descr=""/>
          <p:cNvPicPr/>
          <p:nvPr/>
        </p:nvPicPr>
        <p:blipFill>
          <a:blip r:embed="rId1"/>
          <a:stretch/>
        </p:blipFill>
        <p:spPr>
          <a:xfrm>
            <a:off x="1238400" y="2077920"/>
            <a:ext cx="7016760" cy="478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3E050-A9D9-42D5-8B82-C8476F70EF9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ele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zedstawienie przeglądu istniejących metod wizualizacyjnych dla danych wielowymiarow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ównanie dwóch wybranych metod: skalowania wielowymiarowego (MDS) i samoorganizujących się map Kohonena (SOM) z punktu widzenia zachowania topografii dan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akcyjna eksploracja danych medycznych oraz wizualizacja granic decyzji klasyfikatorów jako narzędzie wspomagające diagnozy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EA20D-5B99-46C0-8C3D-3797EA26C35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3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30760" indent="-23076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izualizacja granic decyzji klasyfikato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generowanie nowych punktów </a:t>
            </a:r>
            <a:r>
              <a:rPr b="0" i="1" lang="pl-PL" sz="1600" spc="-1" strike="noStrike">
                <a:solidFill>
                  <a:srgbClr val="40458c"/>
                </a:solidFill>
                <a:latin typeface="Tahoma"/>
              </a:rPr>
              <a:t>przypadkowych w sąsiedztwie</a:t>
            </a: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 granicy decyzji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n.p. bazy danych psychometrycznych, przypadki nr 554 i 426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wizualizacja granic decyzji dla sieci neuronowej “IncNet”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1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ssigned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organic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826)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ssigned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schizophrenia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428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lternative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schizophrenia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062)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lternative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neurosis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309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9" name="p554gauss" descr=""/>
          <p:cNvPicPr/>
          <p:nvPr/>
        </p:nvPicPr>
        <p:blipFill>
          <a:blip r:embed="rId1"/>
          <a:stretch/>
        </p:blipFill>
        <p:spPr>
          <a:xfrm>
            <a:off x="660240" y="2590920"/>
            <a:ext cx="3624480" cy="3581280"/>
          </a:xfrm>
          <a:prstGeom prst="rect">
            <a:avLst/>
          </a:prstGeom>
          <a:ln w="0">
            <a:noFill/>
          </a:ln>
        </p:spPr>
      </p:pic>
      <p:pic>
        <p:nvPicPr>
          <p:cNvPr id="170" name="p426gauss" descr=""/>
          <p:cNvPicPr/>
          <p:nvPr/>
        </p:nvPicPr>
        <p:blipFill>
          <a:blip r:embed="rId2"/>
          <a:stretch/>
        </p:blipFill>
        <p:spPr>
          <a:xfrm>
            <a:off x="5365800" y="2590920"/>
            <a:ext cx="357804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08AEB-B659-45D1-87D7-3F97BED67D5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6. Konkluzje i perspektyw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aktyczne porównanie algorytmów SOM i MDS pozwala wnioskować,    iż MDS jest lepszym narzędziem do odwzorowywania struktur danych więc lepiej się nadaje do ich interakcyjnej eksploracj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11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kalowanie wielowymiarowe zostało ulepszone i dostosowane do interakcyjnej eksploracji wielowymiarowych dany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11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omyślnie zastosowano metodę MDS do wizualizacji wielowymiarowych danych medycznych oraz do wizualizacji granic decyzji klasyfikatora.             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0">
              <a:lnSpc>
                <a:spcPct val="3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inimalizacja stresu metodą gradientową z MultiStart’em jest uzasadniona w przypadku małych zbiorów danych. Dla większych zbiorów, należy poszukiwać tańszych metod globalny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ogram iMDS przedstawiający 2-wymiarową konfigurację jest przygotowaniem do wizualizacji w 3 wymiara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Interaktywna wizualizacja uwzględniająca informację klasową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izualizacja lokalnych poziomów zniekształceń relacji sąsiedztw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CA83F-C555-45C4-B5C8-117B7CF71A78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ezy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lementacja polepszonego algorytmu MDS pozwala na włączenie go w narzędzie interakcyjnej eksploracji danych oraz wizualizacji granic decyzji wybranego klasyfikato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ody ekstrakcji cech mogą z sukcesem być zastosowane do wizualizacji danych wielowymiarow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kalowanie wielowymiarowe jest lepiej przystosowane do odwzorowywania topografii danych niż mapy samoorganizujące si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E6E26-9893-4FE5-AECD-4AE1D1A7239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lan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ele wizualizacji danych wielowymiarowy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zegląd metod pozwalających na wizualizacj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moorganizujące się mapy Kohonena (SOM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ody skalowania wielowymiarowego (MD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5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astosowania zoptymalizowanej metody M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onkluzje i perspektyw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003D5-119B-493C-929F-1E52F5620E4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1. Cele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oznanie danych poprzez określenie ich globalnej struktury, wykrywanie obecności klasterów i danych odstających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13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Jakie dane 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ane numeryczne (wystarczy możliwość określenia podobieństwa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(dane medyczne: różnorodne skale, nieliniowa struktura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13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Jaka wizualizacja 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zedstawiająca wykres punktowy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(ważna informacja: relacje sąsiedztw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Ekstrakcja cech umożliwia zastosowanie niektórych kosztownych metod klasyfikacyjnych dla danych opisanych w dużej liczbie wymiarów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B6BDF-A52E-40E5-9149-21930776AB4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1. Przegląd istniejących metod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1447560"/>
            <a:ext cx="8502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0">
              <a:spcBef>
                <a:spcPts val="1400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0">
              <a:spcBef>
                <a:spcPts val="1400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07920" y="1295280"/>
          <a:ext cx="8502480" cy="3283200"/>
        </p:xfrm>
        <a:graphic>
          <a:graphicData uri="http://schemas.openxmlformats.org/drawingml/2006/table">
            <a:tbl>
              <a:tblPr/>
              <a:tblGrid>
                <a:gridCol w="3459240"/>
                <a:gridCol w="1235880"/>
                <a:gridCol w="216000"/>
                <a:gridCol w="1038600"/>
                <a:gridCol w="329400"/>
                <a:gridCol w="2223360"/>
              </a:tblGrid>
              <a:tr h="718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40458c"/>
                        </a:buClr>
                        <a:buSzPct val="110000"/>
                        <a:buFont typeface="Symbol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etody liniowe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 statystycz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ieć neuronow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Zachowana informacj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rincipal Components Analysi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Wariancja danych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96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rojection pursuit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Wariancja i odległośc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860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Grand tour method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ynamiczny obraz (przekroje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8E81E-3D43-4D0F-B10C-3E0ADEE1C6A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2. Przegląd istniejących metod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7920" y="1371600"/>
          <a:ext cx="8502480" cy="4873680"/>
        </p:xfrm>
        <a:graphic>
          <a:graphicData uri="http://schemas.openxmlformats.org/drawingml/2006/table">
            <a:tbl>
              <a:tblPr/>
              <a:tblGrid>
                <a:gridCol w="3459240"/>
                <a:gridCol w="1235880"/>
                <a:gridCol w="216000"/>
                <a:gridCol w="1038600"/>
                <a:gridCol w="329400"/>
                <a:gridCol w="2223360"/>
              </a:tblGrid>
              <a:tr h="510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40458c"/>
                        </a:buClr>
                        <a:buSzPct val="110000"/>
                        <a:buFont typeface="Symbol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etody nieliniowe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 statystycz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ieć neuronow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Zachowana informacj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ultidimensional scaling (MDS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lub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ane odmiennośc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euroScal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oraz dodatkowa wiedz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Curvilinear Components Analysi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iektóre odległości („rozwijanie”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Autoassociative feedforward neural network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ieliniowe korelacj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elf-organizing maps (SOM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Relacje sąsiedztw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Generative Topographic Mapping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(statystycznie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19641-AA32-40E7-AEAB-F7E4BF72B2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3. Analiza Składników Główn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Poszukiwanie takiej liniowej transformacji danych, aby po transformacji dane miały największą wariancj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Wizualizacja polega na wykreśleniu dwóch pierwszych kierunków głównych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Dwie klasy metod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Rozkład spektralny (SpD) macierzy korelacji danych: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  =  C . D . C</a:t>
            </a:r>
            <a:r>
              <a:rPr b="0" lang="pl-PL" sz="2400" spc="-1" strike="noStrike" baseline="30000">
                <a:solidFill>
                  <a:srgbClr val="40458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Rozkład na wartości osobliwe (SVD) macierzy danych: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B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 =  N . D . M</a:t>
            </a:r>
            <a:r>
              <a:rPr b="0" lang="pl-PL" sz="2400" spc="-1" strike="noStrike" baseline="30000">
                <a:solidFill>
                  <a:srgbClr val="40458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rzewaga numeryczna ostatniej metody (SV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53C05-90E6-42EC-BC14-8808618F736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4. Ograniczenia rzutowania linioweg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08108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nie nadaje się do wizualizacji zbiorów o nieliniowej strukturze (przykład poniżej: 5-wymiarowy sympleks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czułość na obecność danych odstających. („outliers”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Rzutowanie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liniowe (PCA)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Rzutowanie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nieliniowe (MD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3 grupy (2,3 i 5) mieszane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6 grup odseparowa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24" name="simpPCAMDS" descr=""/>
          <p:cNvPicPr/>
          <p:nvPr/>
        </p:nvPicPr>
        <p:blipFill>
          <a:blip r:embed="rId1"/>
          <a:stretch/>
        </p:blipFill>
        <p:spPr>
          <a:xfrm>
            <a:off x="577800" y="2438280"/>
            <a:ext cx="8874000" cy="36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5E8E4-B19B-46D6-ADAC-651DA8748CD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08:44:46Z</dcterms:created>
  <dc:creator>Elzbieta i Antoine Naud</dc:creator>
  <dc:description/>
  <dc:language>en-US</dc:language>
  <cp:lastModifiedBy>Antoine Naud</cp:lastModifiedBy>
  <cp:lastPrinted>2001-09-13T10:28:59Z</cp:lastPrinted>
  <dcterms:modified xsi:type="dcterms:W3CDTF">2001-09-13T10:41:40Z</dcterms:modified>
  <cp:revision>260</cp:revision>
  <dc:subject/>
  <dc:title>Neural and statistical methods for the visualization of multidimensional data</dc:title>
</cp:coreProperties>
</file>