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6858000"/>
  <p:notesSz cx="66595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660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60560" cy="531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6"/>
          </p:nvPr>
        </p:nvSpPr>
        <p:spPr>
          <a:xfrm>
            <a:off x="3763800" y="-360"/>
            <a:ext cx="2859120" cy="531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661680" y="758880"/>
            <a:ext cx="537516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7"/>
          </p:nvPr>
        </p:nvSpPr>
        <p:spPr>
          <a:xfrm>
            <a:off x="0" y="9339120"/>
            <a:ext cx="2860560" cy="532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8"/>
          </p:nvPr>
        </p:nvSpPr>
        <p:spPr>
          <a:xfrm>
            <a:off x="3763800" y="9339120"/>
            <a:ext cx="2859120" cy="532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BEA7686-6F98-4B64-986C-FFD81E6995B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hciałbym zaprezentować Państw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jważniejsze tezy mojej pracy doktorski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emat pracy brzmi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lgorytmy neuronowe i statystycz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aca została wykonana w Katedrze Metod Komputerowych U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d kierunkiem profesora Włodzisława Duch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organizująca się sieć Kohonena jest siecią dwuwarstwow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ej warstwa wyjściow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siatką neuronów oddziałujących lateraln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wyrażeniu ... mi jest wektorem wag neuronu "i"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 hci jest tzw. funkcją sąsiedztw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której relacje bliskości danych są zachowane na map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najważniejszych zalet tego modelu należy to, ż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konuje jednocześnie redukcji wymiarowośc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az klasteryzacji danych wielowymiarowy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aje możliwość zastosowania do dużych baz da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ub danych w czasie ich napływ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graniczenia modelu SOM,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niekształcenie związane z niedopasowaniem kształtu ma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ogólnego kształtu danych, efekt „brzegowy”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yskretyzacja przestrzeni wyjściowej (siatka neuron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fekt lokalnego powiększani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teryzacja i klasyfikacja nie optymal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ieczność wyboru wielu parametrów uczenia sie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jdźmy teraz do skalowania wielowymiarowe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łówną ideą tej metody jest zminimalizowanie funkcji błę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zw. stresu, gdzie deltaij jest miarą odmienności obiektów i oraz  j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j jest odległością w przestrzeni niskowymiarow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literaturze przedstawiono różne metody optymali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tosowane w tym cel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lgorytm MDS w niniejszej pracy ulepszono w sposób następują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stalono pewną strategię wyboru konfiguracji początkowej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 minimalizacji stresu został ulepszon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optymalizacji skoku wzdłuż gradient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tworzono możliwość dorzutowania nowych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ymalny skok dla metody największego spadk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iera się na aproksymacji funkcji S formą kwadratow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rzymujemy następujące wyrażenie, w którym można dokona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elu analitycznych uproszcze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ównano metodę największego spadku z optymalnym skokiem (OS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metodą sprzężonych gradientów (CO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az z tzw. rzutowaniem Sammon’a (SA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ierwszym wykresie widzimy szybs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bardziej regularne zbieganie się minimalizacji metodą O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rugi wykres przedstawia końcowe wartości stresu dla stu różnych pró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dzimy niższe wartości średnią oraz minimalną dla O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asumując: zalety ulepszonej metody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względnianie krzywizny funkcji S() w punkcie Y(k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y jednocześnie mniejszej kosztowno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iż prawdziwa metoda drugiego rzędu (n.p. metoda Newton’a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w sumie szybsza niż metoda gradientów sprzężony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 minimalizacji przebiega w sposób bardziej kontrolowany ni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ą rzutowania Sammon’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łówną wadą jest jej liniowa zbieżnoś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łączona przez mnie generalizacja polega na minimalizacji nowego stres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ym występują odległości miedzy nowym punk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lub nowymi punkta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 punktami wcześniej rzutowanymi tak zwanej ba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stać stresu jest przedstawiona poniższym wzo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odstawie przeprowadzonych badań można wnioskować, ż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ultiStart z minimalizacją gradientową jest zadowalającym rozwiązani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małych zbiorów (do 100 punkt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siada względną szybkość rzutowani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liwość kontroli obszarów danych, które należy lepiej odwzorowywać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liwość wizualizacji dużych zbiorów danych w celu ich eksplor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.p. bazy tekstów) lub danych napływających w cza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.p. monitoring procesów przemysłowyc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dy zaproponowanego modelu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łożoność obliczeniowa rzędu 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pl-PL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- liczba punkt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iczne lokalne minima (czułość na warunki początkow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implementowany interakcyjny program iMDS został zastosow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wizualizacji danych psychometrycz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yły to dane trzynasto-wymiarowe opisujące przypadki chorób psychicz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dzimy, że MDS pozwala na lepsze odseparowanie różnych k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a przykład klasy ‘norma’ - granatowa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sychopatia’ - niebieska, turkuso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ganika’ - purpurow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lejnym zastosowaniem met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zoomowanie w sąsiedztw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branego pacjenta bazy psychometryczn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chowano i rzutow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 najbliższych sąsiadów w przestrzeni c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k równego 500, 200, 50, 20, 10 i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ńcowe wartości stresu są wskaźnikiem jakości odwzorow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7520" y="4708080"/>
            <a:ext cx="511812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adnicze cele mojej pracy zawierają się w następujących punkta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dstawienie przeglądu istniejących metod wizualizacyj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ównanie dwóch wybranych metod: skalowania wielowymiarowego (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samoorganizujących się map Kohonena (S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punktu widzenia zachowania topografii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akcyjna eksploracja danych medycznych oraz wizualizac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ranic decyzji klasyfikatorów jako narzędzie wspomagające diagno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0720" y="4708080"/>
            <a:ext cx="587232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statnim zastosowaniem j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zualizacja granic decyzji sieci neuronowej Inc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enerowano przypadkowe punkty według rozkładu Gausowskie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sąsiedztwie interesującego nas punktu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klasyfikowano i dorzutowano do obrazu najbliższych sąsiadów z ba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na skorelować pozycję oraz ostrość granicy decyz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prawdopodobieństwami podanymi przez klasyfikator Inc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rzutowane punkty są w obszarze większego zagęszcze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m gdzie klasyfikator podał duże prawdopodobieństw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y są dobrze odseparowa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iedy prawdopodobieństwa są mniejsz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y są przemiesz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01560" y="4708080"/>
            <a:ext cx="557064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kluzje moich badań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aktyczne porównanie algorytmów SOM i MDS pozwala wnioskować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ż MDS jest lepszym narzędziem do odwzorowywania struktur da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ęc lepiej się nadaje do ich interakcyjnej eksplor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kalowanie wielowymiarowe zostało ulepszone i do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interakcyjnej eksploracji wielowymiarowych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myślnie zastosowano metodę MDS do wizualizacji wielowymiar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anych medycznych oraz do wizualizacji granic decyzji klasyfikatora.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dalszej perspektywie można zaproponować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adania nad minimalizacją stresu metodą gradientową z MultiStart’e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o jest uzasadnione w przypadku małych zbiorów da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większych zbiorów, należy poszukiwać tańszych metod global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gram iMDS przedstawiający 2-wymiarową konfiguracj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przygotowaniem do wizualizacji w 3 wymiar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na również myśleć o interaktywnej wizuali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względniającej informację klasow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o wizualizacji lokalnych poziomów zniekształceń relacji sąsiedztw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p. za pomocą Minimalnego Drzewa Rozpinające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uję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łówne tezy mojej rozprawy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acja polepszonego algorytmu M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zwala na włączenie go w narzędzie interakcyjnej eksploracji da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az wizualizacji granic decyzji wybranego klasyfikato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ody ekstrakcji cech mogą z sukcesem być za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alowanie wielowymiarowe jest lepiej przy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odwzorowywania topografii danych niż mapy samoorganizujące si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alizacja przedstawionych celów prac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biegała według następującego plan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unkt pierwszy: Cele wizualizacji danych wielowymiarow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gląd metod pozwalających na wizualizacj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organizujące się mapy Kohonena (S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y skalowania wielowymiarowego (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tosowania zoptymalizowanej metody M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kluzje i perspekty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01200" y="4708080"/>
            <a:ext cx="519444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wstępie rozprawy omówiłem cele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wizualizacji, możliwe jest poznanie da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przez określenie ich globalnej struktur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krywanie obecności klasterów i danych odstając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zualizacja dotyczy danych numerycz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wystarczy możliwość określenia podobieństw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a wizualizacja polega na przedstawieniu wykresów punkt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ych istotne są relacje sąsiedztw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dalszej części pracy przedstawio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y wizualizacji danych wielowymiar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dzielone na liniowe oraz nieliniow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elem tego przeglądu było umożliwienie wyboru met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jbardziej odpowiedniej do wizualizacj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ezentowanych w pracy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naliza Czynników Głównych jest metodą statystyczną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tóra istnieje również w postaci sieci neuronowej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partej na regule Hebb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niki zastosowania każdej z metod różnią się rodzaj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chowanej inform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alowanie wielowymiarowe pozwala zachować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uczytelnić odległości lub dane odmiennośc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wie kolejne metody zaprezentowane w tabel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ą wersjami MDS w postaci sieci neuronow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y samoorganizujące się są skonstruowane w taki sposób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y zachować relacje sąsiedztw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e względu na zachowywane informacje do dalszych badań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ytypowano właśnie metody MDS i S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dano również metodę liniową Analizę Składników głów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nieważ została ona wybrana jako inicjalizacja dla metod nielini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ka rozkładu na wartości osobliwe okazała się leps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została wykorzystana w dalszej części p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zutowanie liniowe nie pozwala na optymalną wizualizacj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biorów o nieliniowej strukturz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rzykład sympleks w 5-ciu wymiarach zobrazowany tą metod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a 3 wierzchołki zgrupowa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tomiast przy zastosowaniu metody nieliniowej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szystkie sześć wierzchołków jest odseparow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917F4-2352-4729-A7B1-BE42AAA2C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2981D-7677-47AE-B1AE-16DE2B82B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82936-1543-4D3D-B480-89D00D3FF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108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0924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292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108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0924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47666-CF2F-467E-A648-900AD892C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34127-DF07-4348-B9B7-0EC0F033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A0ACD-A41A-4B6A-938D-1CBCF623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B6D54-E154-4339-B74F-AA3D7C7E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CC7C4-E677-463C-B568-844066CE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C2516-CEF0-4B87-AA04-920802FB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12560" y="228240"/>
            <a:ext cx="9080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512FC-4E56-4202-8E23-26316B4B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B072E-5443-447F-BA2C-80116E06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4FA77-D81E-4071-A200-DAB02013B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165C3-EAF7-40C2-A7CE-011F3F59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27C08-DDA6-45AB-B70E-FC90FBA2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28768-8E16-493F-B62B-17B533D3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C5288-1A1A-47DF-A46E-458E81E7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1108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0924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1292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1108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60924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12624-6E63-4212-B6A0-925AD324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2F342-AC66-4CF8-8A10-FE3AB1E77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63899-F885-4469-84AE-DCDB462C1F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171EF-F4DB-49CE-B80C-A4BBA26C4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28240"/>
            <a:ext cx="9080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2AE8C-B48A-437F-8995-49578B8B9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8A00C-D551-43E7-AB5B-A5381C05D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2268B-E3BB-45F4-A85F-FB08B8909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305F5-FD8D-49B6-BC0D-674AE56F9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32040" y="0"/>
            <a:ext cx="62740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57564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4880" y="1219320"/>
            <a:ext cx="1933560" cy="2324160"/>
            <a:chOff x="164880" y="1219320"/>
            <a:chExt cx="1933560" cy="2324160"/>
          </a:xfrm>
        </p:grpSpPr>
        <p:sp>
          <p:nvSpPr>
            <p:cNvPr id="3" name=""/>
            <p:cNvSpPr/>
            <p:nvPr/>
          </p:nvSpPr>
          <p:spPr>
            <a:xfrm flipH="1">
              <a:off x="164880" y="1316880"/>
              <a:ext cx="193356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75480" y="1222560"/>
              <a:ext cx="0" cy="23209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71080" y="1219320"/>
              <a:ext cx="2088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-228600">
              <a:spcBef>
                <a:spcPts val="1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500120" indent="-228600">
              <a:spcBef>
                <a:spcPts val="1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1919160" indent="-228600">
              <a:spcBef>
                <a:spcPts val="14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5" marL="1919160" indent="-22860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6" marL="1919160" indent="-22860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990360" y="6400440"/>
            <a:ext cx="7924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915400" y="6400440"/>
            <a:ext cx="66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FF82-7009-4494-AABD-C6491DC8DCAE}" type="slidenum">
              <a:rPr b="1" lang="en-US" sz="16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2040" y="0"/>
            <a:ext cx="6274080" cy="1522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7564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0120" y="887400"/>
            <a:ext cx="0" cy="28465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680" y="3050640"/>
            <a:ext cx="5523120" cy="18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660240" y="1219320"/>
            <a:ext cx="6554880" cy="144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rot="16200000">
            <a:off x="752760" y="1056600"/>
            <a:ext cx="247320" cy="26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59" y="3"/>
                </a:moveTo>
                <a:arcTo wR="10800" hR="10800" stAng="-5476576" swAng="16204040"/>
                <a:lnTo>
                  <a:pt x="10800" y="10800"/>
                </a:lnTo>
                <a:close/>
              </a:path>
              <a:path fill="none" w="21600" h="21600">
                <a:moveTo>
                  <a:pt x="10559" y="3"/>
                </a:moveTo>
                <a:arcTo wR="10800" hR="10800" stAng="-5476576" swAng="16204040"/>
              </a:path>
            </a:pathLst>
          </a:cu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971800" y="3809880"/>
            <a:ext cx="6548040" cy="2876400"/>
            <a:chOff x="2971800" y="3809880"/>
            <a:chExt cx="6548040" cy="2876400"/>
          </a:xfrm>
        </p:grpSpPr>
        <p:sp>
          <p:nvSpPr>
            <p:cNvPr id="53" name=""/>
            <p:cNvSpPr/>
            <p:nvPr/>
          </p:nvSpPr>
          <p:spPr>
            <a:xfrm>
              <a:off x="2971800" y="6175080"/>
              <a:ext cx="654804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320400" y="3809880"/>
              <a:ext cx="0" cy="287640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5400000">
              <a:off x="9200880" y="6013440"/>
              <a:ext cx="24732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2800" y="1371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F582-8F61-4351-9B45-CDDF0B61273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4136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52480" algn="ctr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27152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69056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6905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6905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2800" y="1371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lgorytmy neuronowe i statystyczne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w wizualizacji danych wielowymiarowych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07560" y="3733920"/>
            <a:ext cx="8255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ahoma"/>
              </a:rPr>
              <a:t>Antoine Nau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1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motor: prof. W. Du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tedra Metod Komputerowy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iwersytet Mikołaja Kopernika w Toruni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6" name="UMK" descr=""/>
          <p:cNvPicPr/>
          <p:nvPr/>
        </p:nvPicPr>
        <p:blipFill>
          <a:blip r:embed="rId1"/>
          <a:stretch/>
        </p:blipFill>
        <p:spPr>
          <a:xfrm>
            <a:off x="1155600" y="3733920"/>
            <a:ext cx="14032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3.1. Samoorganizująca się sieć Kohone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eć dwuwarstwowa, uczenie konkurencyjne (zwycięzca bierze większość)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77800" y="1752480"/>
          <a:ext cx="404496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752480"/>
                    <a:ext cx="40449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602320" y="1752480"/>
          <a:ext cx="373860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2320" y="1752480"/>
                    <a:ext cx="37386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kohopol" descr=""/>
          <p:cNvPicPr/>
          <p:nvPr/>
        </p:nvPicPr>
        <p:blipFill>
          <a:blip r:embed="rId5"/>
          <a:stretch/>
        </p:blipFill>
        <p:spPr>
          <a:xfrm>
            <a:off x="825480" y="2227320"/>
            <a:ext cx="7677000" cy="463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26523-5B3F-486D-AA33-0F9DA2B026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3.2. Samoorganizująca się sieć Kohone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25056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alety modelu SOM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konuje jednocześnie redukcji wymiarowości oraz klasteryzacji danych wielowymiarowych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ożliwość zastosowania do dużych baz danych lub danych w czasie ich napływan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-25056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graniczenia modelu SOM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niekształcenie związane z niedopasowaniem kształtu mapy do ogólnego kształtu danych, efekt „brzegowy”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yskretyzacja przestrzeni wyjściowej (siatka neuron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fekt lokalnego powiększani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lasteryzacja i klasyfikacja nie optymalne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onieczność wyboru wielu parametrów uczenia siec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59CD2-650A-4577-9BB1-C51D402A901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1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6240" indent="-288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Ścisła definicja skalowania wielowymiaroweg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la zbioru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obiektów, mamy pomiary {</a:t>
            </a:r>
            <a:r>
              <a:rPr b="0" lang="pl-PL" sz="2400" spc="-1" strike="noStrike">
                <a:solidFill>
                  <a:srgbClr val="40458c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odmienności (ang. dissimilarity) dla wszystkich par obiektów (i,j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zukamy niskowymiarowej przestrzeni M, w której jeden punkt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reprezentuje jeden obiekt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w taki sposób, by odległości {d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między punktami {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były jak najlepiej dopasowane do odmienności {</a:t>
            </a:r>
            <a:r>
              <a:rPr b="0" lang="pl-PL" sz="2400" spc="-1" strike="noStrike">
                <a:solidFill>
                  <a:srgbClr val="40458c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6240" indent="-288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Skalowanie metodą najmniejszych kwadratów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8330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inimalizacja funkcji błędu (badness-of-fit), tzw. stresu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330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etody optymalizacji: lokalne (coordinate or gradient descent), globalne (majorizing function, wygładzanie stresu) lub inferencyjn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981080" y="4648320"/>
          <a:ext cx="5553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648320"/>
                    <a:ext cx="55533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A2581-56D1-4323-BD9C-B4EDB4E8556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2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Ulepszenia wniesione do algorytmu MDS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ybór początkowej konfiguracji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CA + MultiStar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rzyspieszenie oraz ulepszenie procesu zbiegania się minimalizacji stres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optymalizacja skoku wzdłuż gradientu w metodz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największego spadku uwzględniając drugie pochod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Generalizacj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dorzutowania nowych danych przez MD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o istniejącego rzutowan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139C9-A2AE-4163-9394-414E7F3DF84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3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620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ptymalny skok dla metody największego spadk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90800" y="1941480"/>
          <a:ext cx="404172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0" y="1941480"/>
                    <a:ext cx="404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07880" y="2895480"/>
          <a:ext cx="949824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880" y="2895480"/>
                    <a:ext cx="94982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198440" y="3706920"/>
          <a:ext cx="685332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98440" y="3706920"/>
                    <a:ext cx="68533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800440" y="4648320"/>
          <a:ext cx="3801960" cy="138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0440" y="4648320"/>
                    <a:ext cx="380196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022760" y="2514600"/>
            <a:ext cx="74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Aproksymacja funkcji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S(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·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formą kwadratową (szereg Taylora)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E454C-AD4F-44C0-8493-2EA803F0823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4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620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równanie procesu minimalizacji z innymi metodami 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3" name="conv" descr=""/>
          <p:cNvPicPr/>
          <p:nvPr/>
        </p:nvPicPr>
        <p:blipFill>
          <a:blip r:embed="rId1"/>
          <a:stretch/>
        </p:blipFill>
        <p:spPr>
          <a:xfrm>
            <a:off x="247680" y="1828800"/>
            <a:ext cx="932796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B172C-83B8-4272-BB49-77AA10790DC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5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092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Zalety metody największego spadku z optymalnym skokiem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uwzględnianie krzywizny funkcji 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S()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w punkcie 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i="1" lang="pl-PL" sz="1800" spc="-1" strike="noStrike" baseline="30000">
                <a:solidFill>
                  <a:srgbClr val="40458c"/>
                </a:solidFill>
                <a:latin typeface="Tahoma"/>
              </a:rPr>
              <a:t>(k)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przy jednocześnie mniejszej kosztowności niż prawdziwa metoda drugiego rzędu          (n.p. metoda Newton’a)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jest w sumie szybsza niż metoda gradientów sprzężonych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proces minimalizacji przebiega w sposób bardziej kontrolowany niż metodą rzutowania Sammon’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0520" indent="-25092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ady metody największego spadk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liniowa zbieżność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0520" indent="-25092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Dołączenie generalizacji do MDSu: „względny” M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b 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– liczba punktów wcześniej rzutowanych     (b – baza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lnSpc>
                <a:spcPct val="7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n 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– liczba nowych punktów do dorzutowania  (n – nowe dane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95280" y="5486400"/>
          <a:ext cx="918036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86400"/>
                    <a:ext cx="91803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E1753-4156-4D7F-9FE3-DDAE703D0E7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6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25056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Zalety zaproponowanego modelu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ultiStart z minimalizacją gradientową jest zadowalającym rozwiązaniem dla małych zbiorów (do 100 punkt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zględna szybkość rzutowani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kontroli obszarów danych, które należy lepiej odwzorowywać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wizualizacji dużych zbiorów danych w celu ich eksploracji (n.p. bazy tekstów) lub danych napływających w czasie (n.p. monitoring procesów przemysłowych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-25056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Wady zaproponowanego modelu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złożoność obliczeniowa rzędu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i="1" lang="pl-PL" sz="20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- liczba punkt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liczne lokalne minima (czułość na warunki początkowe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B7AEC-4579-434D-B42C-D59C91FF24B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1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4280" y="1519200"/>
            <a:ext cx="88200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641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Program </a:t>
            </a:r>
            <a:r>
              <a:rPr b="1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iMDS</a:t>
            </a:r>
            <a:r>
              <a:rPr b="0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 zaimplementowany w śr Windows został zastosowany do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lnSpc>
                <a:spcPct val="9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izualizacji danych psychometrycznych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(test MMPI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550 pytań </a:t>
            </a:r>
            <a:r>
              <a:rPr b="0" lang="pl-PL" sz="1600" spc="-1" strike="noStrike">
                <a:solidFill>
                  <a:srgbClr val="40458c"/>
                </a:solidFill>
                <a:latin typeface="Symbol"/>
                <a:ea typeface="Symbol"/>
              </a:rPr>
              <a:t></a:t>
            </a: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 13 skal (20-120), 20 klas nozologicznych (kobiety/mężczyźni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wizualizacja przez PCA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wizualizacja przez MD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1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= 0.065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1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= 0.021 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(PCA init., 142 iteracji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2" name="allwoPCA" descr=""/>
          <p:cNvPicPr/>
          <p:nvPr/>
        </p:nvPicPr>
        <p:blipFill>
          <a:blip r:embed="rId1"/>
          <a:stretch/>
        </p:blipFill>
        <p:spPr>
          <a:xfrm>
            <a:off x="660240" y="2590920"/>
            <a:ext cx="4292640" cy="3170160"/>
          </a:xfrm>
          <a:prstGeom prst="rect">
            <a:avLst/>
          </a:prstGeom>
          <a:ln w="0">
            <a:noFill/>
          </a:ln>
        </p:spPr>
      </p:pic>
      <p:pic>
        <p:nvPicPr>
          <p:cNvPr id="163" name="allwoNLM" descr=""/>
          <p:cNvPicPr/>
          <p:nvPr/>
        </p:nvPicPr>
        <p:blipFill>
          <a:blip r:embed="rId2"/>
          <a:stretch/>
        </p:blipFill>
        <p:spPr>
          <a:xfrm>
            <a:off x="5118120" y="2590920"/>
            <a:ext cx="4292640" cy="31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AA656-D737-44FF-A3BC-116648B2FA1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2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Zoomowanie w przestrzeni wybranej interakcyjni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.p. zoomowanie w sąsiedztwie punktu nr 426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6" name="p426" descr=""/>
          <p:cNvPicPr/>
          <p:nvPr/>
        </p:nvPicPr>
        <p:blipFill>
          <a:blip r:embed="rId1"/>
          <a:stretch/>
        </p:blipFill>
        <p:spPr>
          <a:xfrm>
            <a:off x="1238400" y="2077920"/>
            <a:ext cx="7016760" cy="478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64110-6678-4761-9E1E-76C5E310AAA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ele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zedstawienie przeglądu istniejących metod wizualizacyjnych dla danych wielowymiarow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ównanie dwóch wybranych metod: skalowania wielowymiarowego (MDS) i samoorganizujących się map Kohonena (SOM) z punktu widzenia zachowania topografii dan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akcyjna eksploracja danych medycznych oraz wizualizacja granic decyzji klasyfikatorów jako narzędzie wspomagające diagnozy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3BF01-1E4A-4316-92B6-1D437A684B0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3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30760" indent="-23076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izualizacja granic decyzji klasyfikato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generowanie nowych punktów </a:t>
            </a:r>
            <a:r>
              <a:rPr b="0" i="1" lang="pl-PL" sz="1600" spc="-1" strike="noStrike">
                <a:solidFill>
                  <a:srgbClr val="40458c"/>
                </a:solidFill>
                <a:latin typeface="Tahoma"/>
              </a:rPr>
              <a:t>przypadkowych w sąsiedztwie</a:t>
            </a: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 granicy decyzji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n.p. bazy danych psychometrycznych, przypadki nr 554 i 426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wizualizacja granic decyzji dla sieci neuronowej “IncNet”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1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ssigned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organic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826)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ssigned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schizophrenia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428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lternative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schizophrenia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062)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lternative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neurosis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309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9" name="p554gauss" descr=""/>
          <p:cNvPicPr/>
          <p:nvPr/>
        </p:nvPicPr>
        <p:blipFill>
          <a:blip r:embed="rId1"/>
          <a:stretch/>
        </p:blipFill>
        <p:spPr>
          <a:xfrm>
            <a:off x="660240" y="2590920"/>
            <a:ext cx="3624480" cy="3581280"/>
          </a:xfrm>
          <a:prstGeom prst="rect">
            <a:avLst/>
          </a:prstGeom>
          <a:ln w="0">
            <a:noFill/>
          </a:ln>
        </p:spPr>
      </p:pic>
      <p:pic>
        <p:nvPicPr>
          <p:cNvPr id="170" name="p426gauss" descr=""/>
          <p:cNvPicPr/>
          <p:nvPr/>
        </p:nvPicPr>
        <p:blipFill>
          <a:blip r:embed="rId2"/>
          <a:stretch/>
        </p:blipFill>
        <p:spPr>
          <a:xfrm>
            <a:off x="5365800" y="2590920"/>
            <a:ext cx="357804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96A68-CCE6-415E-8893-9E9F3CAA4DF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6. Konkluzje i perspektyw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aktyczne porównanie algorytmów SOM i MDS pozwala wnioskować,    iż MDS jest lepszym narzędziem do odwzorowywania struktur danych więc lepiej się nadaje do ich interakcyjnej eksploracj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11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kalowanie wielowymiarowe zostało ulepszone i dostosowane do interakcyjnej eksploracji wielowymiarowych dany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11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omyślnie zastosowano metodę MDS do wizualizacji wielowymiarowych danych medycznych oraz do wizualizacji granic decyzji klasyfikatora.             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0">
              <a:lnSpc>
                <a:spcPct val="3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inimalizacja stresu metodą gradientową z MultiStart’em jest uzasadniona w przypadku małych zbiorów danych. Dla większych zbiorów, należy poszukiwać tańszych metod globalny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ogram iMDS przedstawiający 2-wymiarową konfigurację jest przygotowaniem do wizualizacji w 3 wymiara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Interaktywna wizualizacja uwzględniająca informację klasową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izualizacja lokalnych poziomów zniekształceń relacji sąsiedztw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87A80-6601-4656-A27F-65EE6D60CA8F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ezy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lementacja polepszonego algorytmu MDS pozwala na włączenie go w narzędzie interakcyjnej eksploracji danych oraz wizualizacji granic decyzji wybranego klasyfikato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ody ekstrakcji cech mogą z sukcesem być zastosowane do wizualizacji danych wielowymiarow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kalowanie wielowymiarowe jest lepiej przystosowane do odwzorowywania topografii danych niż mapy samoorganizujące si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4D301-0231-435F-A2D5-4FC59176C02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lan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ele wizualizacji danych wielowymiarowy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zegląd metod pozwalających na wizualizacj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moorganizujące się mapy Kohonena (SOM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ody skalowania wielowymiarowego (MD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5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astosowania zoptymalizowanej metody M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onkluzje i perspektyw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E0D01-F1C2-4194-82B3-7F9DFC57765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1. Cele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oznanie danych poprzez określenie ich globalnej struktury, wykrywanie obecności klasterów i danych odstających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13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Jakie dane 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ane numeryczne (wystarczy możliwość określenia podobieństwa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(dane medyczne: różnorodne skale, nieliniowa struktura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13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Jaka wizualizacja 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zedstawiająca wykres punktowy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(ważna informacja: relacje sąsiedztw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Ekstrakcja cech umożliwia zastosowanie niektórych kosztownych metod klasyfikacyjnych dla danych opisanych w dużej liczbie wymiarów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B3234-45D8-45D4-A5D5-DA3E8ECAA7A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1. Przegląd istniejących metod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1447560"/>
            <a:ext cx="8502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0">
              <a:spcBef>
                <a:spcPts val="1400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0">
              <a:spcBef>
                <a:spcPts val="1400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07920" y="1295280"/>
          <a:ext cx="8502480" cy="3283200"/>
        </p:xfrm>
        <a:graphic>
          <a:graphicData uri="http://schemas.openxmlformats.org/drawingml/2006/table">
            <a:tbl>
              <a:tblPr/>
              <a:tblGrid>
                <a:gridCol w="3459240"/>
                <a:gridCol w="1235880"/>
                <a:gridCol w="216000"/>
                <a:gridCol w="1038600"/>
                <a:gridCol w="329400"/>
                <a:gridCol w="2223360"/>
              </a:tblGrid>
              <a:tr h="718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40458c"/>
                        </a:buClr>
                        <a:buSzPct val="110000"/>
                        <a:buFont typeface="Symbol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etody liniowe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 statystycz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ieć neuronow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Zachowana informacj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rincipal Components Analysi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Wariancja danych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96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rojection pursuit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Wariancja i odległośc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860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Grand tour method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ynamiczny obraz (przekroje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FBA4D-65DD-4157-ACEE-82E8465E60B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2. Przegląd istniejących metod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7920" y="1371600"/>
          <a:ext cx="8502480" cy="4873680"/>
        </p:xfrm>
        <a:graphic>
          <a:graphicData uri="http://schemas.openxmlformats.org/drawingml/2006/table">
            <a:tbl>
              <a:tblPr/>
              <a:tblGrid>
                <a:gridCol w="3459240"/>
                <a:gridCol w="1235880"/>
                <a:gridCol w="216000"/>
                <a:gridCol w="1038600"/>
                <a:gridCol w="329400"/>
                <a:gridCol w="2223360"/>
              </a:tblGrid>
              <a:tr h="510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40458c"/>
                        </a:buClr>
                        <a:buSzPct val="110000"/>
                        <a:buFont typeface="Symbol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etody nieliniowe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 statystycz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ieć neuronow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Zachowana informacj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ultidimensional scaling (MDS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lub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ane odmiennośc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euroScal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oraz dodatkowa wiedz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Curvilinear Components Analysi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iektóre odległości („rozwijanie”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Autoassociative feedforward neural network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ieliniowe korelacj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elf-organizing maps (SOM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Relacje sąsiedztw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Generative Topographic Mapping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(statystycznie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17240-362C-4558-8FE3-F504DB18BC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3. Analiza Składników Główn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Poszukiwanie takiej liniowej transformacji danych, aby po transformacji dane miały największą wariancj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Wizualizacja polega na wykreśleniu dwóch pierwszych kierunków głównych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Dwie klasy metod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Rozkład spektralny (SpD) macierzy korelacji danych: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  =  C . D . C</a:t>
            </a:r>
            <a:r>
              <a:rPr b="0" lang="pl-PL" sz="2400" spc="-1" strike="noStrike" baseline="30000">
                <a:solidFill>
                  <a:srgbClr val="40458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Rozkład na wartości osobliwe (SVD) macierzy danych: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B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 =  N . D . M</a:t>
            </a:r>
            <a:r>
              <a:rPr b="0" lang="pl-PL" sz="2400" spc="-1" strike="noStrike" baseline="30000">
                <a:solidFill>
                  <a:srgbClr val="40458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rzewaga numeryczna ostatniej metody (SV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E1BD6-D80C-411D-A9B5-1312A77C45D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4. Ograniczenia rzutowania linioweg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08108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nie nadaje się do wizualizacji zbiorów o nieliniowej strukturze (przykład poniżej: 5-wymiarowy sympleks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czułość na obecność danych odstających. („outliers”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Rzutowanie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liniowe (PCA)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Rzutowanie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nieliniowe (MD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3 grupy (2,3 i 5) mieszane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6 grup odseparowa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24" name="simpPCAMDS" descr=""/>
          <p:cNvPicPr/>
          <p:nvPr/>
        </p:nvPicPr>
        <p:blipFill>
          <a:blip r:embed="rId1"/>
          <a:stretch/>
        </p:blipFill>
        <p:spPr>
          <a:xfrm>
            <a:off x="577800" y="2438280"/>
            <a:ext cx="8874000" cy="36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14DA5-9122-40FA-928C-8770F64538B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08:44:46Z</dcterms:created>
  <dc:creator>Elzbieta i Antoine Naud</dc:creator>
  <dc:description/>
  <dc:language>en-US</dc:language>
  <cp:lastModifiedBy>Antoine Naud</cp:lastModifiedBy>
  <cp:lastPrinted>2001-09-13T10:28:59Z</cp:lastPrinted>
  <dcterms:modified xsi:type="dcterms:W3CDTF">2001-09-13T10:41:40Z</dcterms:modified>
  <cp:revision>260</cp:revision>
  <dc:subject/>
  <dc:title>Neural and statistical methods for the visualization of multidimensional data</dc:title>
</cp:coreProperties>
</file>